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2.jpeg" ContentType="image/jpeg"/>
  <Override PartName="/ppt/media/image1.jpeg" ContentType="image/jpeg"/>
  <Override PartName="/ppt/media/image7.png" ContentType="image/png"/>
  <Override PartName="/ppt/media/image13.jpeg" ContentType="image/jpeg"/>
  <Override PartName="/ppt/media/image5.png" ContentType="image/png"/>
  <Override PartName="/ppt/media/image8.jpeg" ContentType="image/jpe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D62D5-839D-466B-BB1B-82C49B8A49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kground image from: http://fosterweb.com/thinkquest/begin/earthsunmoon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dailymail.co.uk/sciencetech/article-1367846/Super-moon-Clear-skies-set-reveal-tonights-lunar-perigee-glory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lpi.usra.edu/education/skytellers/moon_phases/about.s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moonconnection.com/moon_phases.p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news.nationalgeographic.com/news/2012/11/pictures/121114-total-solar-eclipse-pictures-australia-space-scienc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2.chilton.k12.wi.us/sromekg/astronomy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cbc.ca/news/technology/rare-solar-eclipse-takes-place-tonight-over-antarctica-1.26242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blogto.com/city/2010/12/photos_of_the_2010_lunar_eclipse_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taken from: http://www.kashif-ali.com/2010/03/northern-southern-hemispheres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divulgence.net/axis%20shift%202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science.howstuffworks.com/environmental/earth/geophysics/earth2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drikpanchang.com/seasons/season-summer-solstice-timing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simple.wikipedia.org/wiki/Winter_solst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en.wikipedia.org/wiki/Equino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kground image from: http://faculty.wcas.northwestern.edu/~infocom/Ideas/solstice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7A2ED-2697-4A20-91A4-0B5779B1D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47D5F-69AE-4BD0-A352-71B31D0C4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2651E-3EBB-4670-9498-4AEF73916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25E0A-1144-458B-9A15-F33E51F95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3D73A-FC01-4BA6-BDAA-80E161C80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4EAF4-03C3-4E98-BB99-F01A460F2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70066-9794-48C1-9833-F2B9D5005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3DDD9-1E99-477E-A8B9-2CEEFAAC8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512CF-A1D5-48AD-B4E5-AFD1E8C31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4CBE1-C6F9-4C3F-8F9E-8F73A6EF4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66E9A-9253-4D0A-8E25-0B3331DEF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4463A-CE6B-4EE9-9425-327DAFF9B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C819E-473A-4BD2-9238-7124851D2C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ffects of the Earth &amp; Moon’s Orb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on’s Orb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takes about 27 days for the Moon to orbit around the Eart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takes about 27 days for the Moon to rotate around its ax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4648320" y="2803680"/>
            <a:ext cx="4114800" cy="254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unar Cy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the sequence of phases made by the Moon during one orbit around the Ear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419720" y="2600280"/>
            <a:ext cx="426708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523880" y="609480"/>
            <a:ext cx="60944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causes eclipse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522440" y="609480"/>
            <a:ext cx="60976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lar Eclip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when the Moon blocks from or all of the Sun’s light form the Earth.  They are very ra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4419720" y="2387520"/>
            <a:ext cx="4343400" cy="33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unar Eclip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when the Earth blocks some or all of the Sun’s light from the Moon.  They are much more comm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5079960" y="1676520"/>
            <a:ext cx="309888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misphe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2437920"/>
            <a:ext cx="38098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Earth is divided into 2 hemispher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842000" y="1676520"/>
            <a:ext cx="35748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arth’s Ax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arth’s axis is tilted 23.5º from vertic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572000" y="2357280"/>
            <a:ext cx="411480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685800" y="923760"/>
            <a:ext cx="777240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er Solst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June 21, the northern hemisphere is tilted the most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towar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e Su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495680" y="2602080"/>
            <a:ext cx="4267440" cy="279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inter Solst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December 21, the northern hemisphere is tilted the most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way fro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e Su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648320" y="2790720"/>
            <a:ext cx="3809880" cy="249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quinox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quinox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re days when the hours of daylight equal the hours of darkne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4419720" y="2509920"/>
            <a:ext cx="4419360" cy="29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keeps the Earth in orbit around the Su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avitational For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the force of attraction between 2 objec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Earth’s gravitational force keeps the Moon in orbit around 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23T06:33:56Z</dcterms:created>
  <dc:creator>rubina khan</dc:creator>
  <dc:description/>
  <dc:language>en-US</dc:language>
  <cp:lastModifiedBy>rubina khan</cp:lastModifiedBy>
  <dcterms:modified xsi:type="dcterms:W3CDTF">2014-10-23T07:10:41Z</dcterms:modified>
  <cp:revision>37</cp:revision>
  <dc:subject/>
  <dc:title>Effects of the Earth &amp; Moon’s Orbits</dc:title>
</cp:coreProperties>
</file>